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5D4-97F2-47C3-8D0C-6E196CFF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971-B028-40E6-8174-A8CBF02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796-08EB-45F2-9090-7801B927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BB7-57AF-475F-A892-E1651C71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C4C-6D4B-4214-927E-80CF00C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03E-162F-4EEF-90F7-7369900C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7AE-63EF-4153-BA3E-4FB1A95B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6EA-1B2B-4706-852A-C6DAAEC5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35F-4E56-4CD4-B835-31E2E8C2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AB4-3294-4608-9203-8510CC8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D96-E634-4C35-A8EC-E4696ED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B5F-603C-4D34-8508-2031694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841A-B76B-4967-AB32-FC0FAB007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rotestant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crucifixes, relics, stained-glass windows, and murals from their chur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d shrines and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 of re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or a warm, emotional religion all coul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husiasm was a key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a drunkard becomes filled with wine, so must the congregation become filled with spir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e reading and study were extended to all classes, a powerful spur for individual religious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rted the earlier radical stress on the priesthood of all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in the practical power of Christian rebirth in everyday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expected to lead good, moral lives regardless of soci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s a group at Oxford known as The Holy Club (organized by John Wesley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called Methodists because they were very methodical in their dev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d by problems with the faith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simony, not building churches to accommodate the growing population, and skepticism caused by the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e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led 250,000 miles on horse back over 50 years, preaching over 40,000 ser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Calvin’s “Predestin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inistry eventually became the new denomination known as Method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47:56Z</dcterms:created>
  <dc:creator>MNS</dc:creator>
  <dc:description/>
  <dc:language>en-US</dc:language>
  <cp:lastModifiedBy>MNS</cp:lastModifiedBy>
  <dcterms:modified xsi:type="dcterms:W3CDTF">2009-12-04T14:12:03Z</dcterms:modified>
  <cp:revision>2</cp:revision>
  <dc:subject/>
  <dc:title>Protestant revival</dc:title>
</cp:coreProperties>
</file>